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414A-81E9-43A7-B469-2950F0E4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E73-C414-4F1C-8DA1-1B5A00E0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D41D-C540-448B-B66D-205B8A7C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7892-DACC-491E-AF7F-3A3E5059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BF22-8F3E-4D46-98E0-0B0C2DD9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A0CB-AF2B-4EC6-B95F-486FA662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5D0A-7E29-4C2E-B837-403461A0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47DD-AD41-4E20-A526-B6BC92B8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6B97-D56F-48C2-884C-B253A5D5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79C5-A60E-4D4F-9456-17691808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2CCC-D039-47E9-94A5-CA3A9C0A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44B-9C3F-48AC-8AAD-C768EC2C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3D51-EBBF-4113-B79A-CDF37FF1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DC6A-A35B-40CA-BBC0-9C3048E1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0DB1-B971-4805-AE5D-6F4D4F73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9E1A-6143-4050-94AE-5BDFBE18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BFAF-C3C6-4C54-9B0E-A72BE741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CC7-94F5-4DB2-B165-E66734D8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504-955E-424E-A0D9-038872BE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514E-5160-45F6-B485-09FBFDF2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7209-CCF6-40D4-94D3-AF5C386D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BD3-0A90-4778-B44E-62E06621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8697-08C3-42BF-9F39-680BF1F6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EA4D-96BC-4C53-BDF2-6DB3700C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14C4-1FFD-48CB-93F1-B70A9CDB0694}" type="slidenum"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FE3C-23F4-4595-A469-83C6142B75DE}" type="slidenum"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ahoma"/>
              </a:rPr>
              <a:t>Reconfigurando la Red de Valo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Autora: Verna Alle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Grupo: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Rubén Hidalgo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René Pedraza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200" spc="-1" strike="noStrike">
                <a:solidFill>
                  <a:srgbClr val="ffff00"/>
                </a:solidFill>
                <a:latin typeface="Tahoma"/>
              </a:rPr>
              <a:t>Sergio Zapata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796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Mapa de Servicios, Ingresos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y Conocimient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07732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E-comer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Estrategias de r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Conocimiento del intercambio de valo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Beneficios intangibles (lealtad y reconocimiento de marca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Cas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Manufacturador de ropa con marketing gratuito a distribuidores y otros manufacturador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Por que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500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9144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Benefici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Datos de venta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Relacion usuario final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Inteligencia del mercad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Retroalimentacion de consumido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Inteligencia competitiva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Otros cas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Linux(comunidad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Mp3(distribucio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Redes de valor son mas que cadena de valor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Conocimiento e intangibles son medio de cambi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Reconfigurar la Red del Valo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La pregunta clave del negocio en la economía del conocimiento es ¿Cómo se crea valor?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La respuesta tradicional a esa pregunta es a través de la cadena del valor !!! 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Un desafío estratégico importante del negocio hoy, es reconfigurar la cadena de valor a una estructura más fluída de la red de valo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El comercio electrónico esta evolucionando  hacia   los   e-webs y business web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grpSp>
              <p:nvGrpSpPr>
                <p:cNvPr id="92" name=""/>
                <p:cNvGrpSpPr/>
                <p:nvPr/>
              </p:nvGrpSpPr>
              <p:grpSpPr>
                <a:xfrm>
                  <a:off x="0" y="0"/>
                  <a:ext cx="9144000" cy="6858000"/>
                  <a:chOff x="0" y="0"/>
                  <a:chExt cx="9144000" cy="6858000"/>
                </a:xfrm>
              </p:grpSpPr>
              <p:grpSp>
                <p:nvGrpSpPr>
                  <p:cNvPr id="93" name=""/>
                  <p:cNvGrpSpPr/>
                  <p:nvPr/>
                </p:nvGrpSpPr>
                <p:grpSpPr>
                  <a:xfrm>
                    <a:off x="0" y="0"/>
                    <a:ext cx="9144000" cy="6858000"/>
                    <a:chOff x="0" y="0"/>
                    <a:chExt cx="9144000" cy="6858000"/>
                  </a:xfrm>
                </p:grpSpPr>
                <p:pic>
                  <p:nvPicPr>
                    <p:cNvPr id="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4000" cy="68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1752480" y="533520"/>
                      <a:ext cx="5791320" cy="1295280"/>
                    </a:xfrm>
                    <a:prstGeom prst="rect">
                      <a:avLst/>
                    </a:prstGeom>
                    <a:solidFill>
                      <a:srgbClr val="0000cc"/>
                    </a:solidFill>
                    <a:ln w="9360">
                      <a:solidFill>
                        <a:srgbClr val="00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" name=""/>
                  <p:cNvSpPr/>
                  <p:nvPr/>
                </p:nvSpPr>
                <p:spPr>
                  <a:xfrm>
                    <a:off x="7010280" y="5943600"/>
                    <a:ext cx="1905120" cy="762120"/>
                  </a:xfrm>
                  <a:prstGeom prst="rect">
                    <a:avLst/>
                  </a:prstGeom>
                  <a:solidFill>
                    <a:srgbClr val="0000cc"/>
                  </a:solidFill>
                  <a:ln w="93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ec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" name=""/>
                <p:cNvSpPr/>
                <p:nvPr/>
              </p:nvSpPr>
              <p:spPr>
                <a:xfrm>
                  <a:off x="762120" y="5715000"/>
                  <a:ext cx="1981080" cy="914400"/>
                </a:xfrm>
                <a:prstGeom prst="rect">
                  <a:avLst/>
                </a:prstGeom>
                <a:solidFill>
                  <a:srgbClr val="0000cc"/>
                </a:solidFill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762120" y="5715000"/>
                <a:ext cx="1981080" cy="9144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010280" y="5943600"/>
                <a:ext cx="1905120" cy="7621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76120" y="281160"/>
              <a:ext cx="8481960" cy="1295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52480" y="1585800"/>
              <a:ext cx="5791320" cy="2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9240" y="295200"/>
              <a:ext cx="8610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00"/>
                  </a:solidFill>
                  <a:latin typeface="Bangle"/>
                </a:rPr>
                <a:t>De la Cadena del Valor hacia la Red de Valor</a:t>
              </a:r>
              <a:endParaRPr b="0" lang="en-US" sz="36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Las Tres Monedas del Valo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Los Bienes,Servicios y los ingresos (GSR)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Conocimiento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Tahoma"/>
              </a:rPr>
              <a:t>Beneficios intangibles</a:t>
            </a:r>
            <a:r>
              <a:rPr b="0" lang="es-MX" sz="32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abla de valores de Intercambi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693800" y="1657440"/>
            <a:ext cx="6187680" cy="3297240"/>
            <a:chOff x="1693800" y="1657440"/>
            <a:chExt cx="6187680" cy="3297240"/>
          </a:xfrm>
        </p:grpSpPr>
        <p:sp>
          <p:nvSpPr>
            <p:cNvPr id="107" name="_s5130"/>
            <p:cNvSpPr/>
            <p:nvPr/>
          </p:nvSpPr>
          <p:spPr>
            <a:xfrm>
              <a:off x="3951360" y="2243160"/>
              <a:ext cx="1672920" cy="1674720"/>
            </a:xfrm>
            <a:prstGeom prst="ellipse">
              <a:avLst/>
            </a:prstGeom>
            <a:solidFill>
              <a:srgbClr val="9999ff">
                <a:alpha val="50000"/>
              </a:srgbClr>
            </a:solidFill>
            <a:ln w="468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8" name="_s5131"/>
            <p:cNvSpPr/>
            <p:nvPr/>
          </p:nvSpPr>
          <p:spPr>
            <a:xfrm>
              <a:off x="3951360" y="1657440"/>
              <a:ext cx="16729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9" name="_s5132"/>
            <p:cNvSpPr/>
            <p:nvPr/>
          </p:nvSpPr>
          <p:spPr>
            <a:xfrm>
              <a:off x="4502160" y="3197160"/>
              <a:ext cx="1672920" cy="167508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46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0" name="_s5133"/>
            <p:cNvSpPr/>
            <p:nvPr/>
          </p:nvSpPr>
          <p:spPr>
            <a:xfrm>
              <a:off x="6208560" y="4535640"/>
              <a:ext cx="16729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1" name="_s5134"/>
            <p:cNvSpPr/>
            <p:nvPr/>
          </p:nvSpPr>
          <p:spPr>
            <a:xfrm>
              <a:off x="3400200" y="3197160"/>
              <a:ext cx="1672920" cy="1675080"/>
            </a:xfrm>
            <a:prstGeom prst="ellipse">
              <a:avLst/>
            </a:prstGeom>
            <a:solidFill>
              <a:srgbClr val="0066ff">
                <a:alpha val="50000"/>
              </a:srgbClr>
            </a:solidFill>
            <a:ln w="46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2" name="_s5135"/>
            <p:cNvSpPr/>
            <p:nvPr/>
          </p:nvSpPr>
          <p:spPr>
            <a:xfrm>
              <a:off x="1693800" y="4537080"/>
              <a:ext cx="16729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aphicFrame>
        <p:nvGraphicFramePr>
          <p:cNvPr id="113" name=""/>
          <p:cNvGraphicFramePr/>
          <p:nvPr/>
        </p:nvGraphicFramePr>
        <p:xfrm>
          <a:off x="685800" y="1828800"/>
          <a:ext cx="7632720" cy="4708440"/>
        </p:xfrm>
        <a:graphic>
          <a:graphicData uri="http://schemas.openxmlformats.org/drawingml/2006/table">
            <a:tbl>
              <a:tblPr/>
              <a:tblGrid>
                <a:gridCol w="2016000"/>
                <a:gridCol w="2951280"/>
                <a:gridCol w="2665440"/>
              </a:tblGrid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Mecanismo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00"/>
                      </a:solidFill>
                    </a:lnL>
                    <a:lnR w="2880">
                      <a:solidFill>
                        <a:srgbClr val="ffff00"/>
                      </a:solidFill>
                    </a:lnR>
                    <a:lnT w="2880">
                      <a:solidFill>
                        <a:srgbClr val="ffff00"/>
                      </a:solidFill>
                    </a:lnT>
                    <a:lnB w="28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Valor provisto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00"/>
                      </a:solidFill>
                    </a:lnL>
                    <a:lnR w="2880">
                      <a:solidFill>
                        <a:srgbClr val="ffff00"/>
                      </a:solidFill>
                    </a:lnR>
                    <a:lnT w="2880">
                      <a:solidFill>
                        <a:srgbClr val="ffff00"/>
                      </a:solidFill>
                    </a:lnT>
                    <a:lnB w="28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Valor recibido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00"/>
                      </a:solidFill>
                    </a:lnL>
                    <a:lnR w="2880">
                      <a:solidFill>
                        <a:srgbClr val="ffff00"/>
                      </a:solidFill>
                    </a:lnR>
                    <a:lnT w="2880">
                      <a:solidFill>
                        <a:srgbClr val="ffff00"/>
                      </a:solidFill>
                    </a:lnT>
                    <a:lnB w="28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191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Grupo de discusión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on-line interactivo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00"/>
                      </a:solidFill>
                    </a:lnL>
                    <a:lnR w="2880">
                      <a:solidFill>
                        <a:srgbClr val="ffff00"/>
                      </a:solidFill>
                    </a:lnR>
                    <a:lnT w="2880">
                      <a:solidFill>
                        <a:srgbClr val="ffff00"/>
                      </a:solidFill>
                    </a:lnT>
                    <a:lnB w="28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Bienes, Servicio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iscusión moderada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Respuesta a las pregunta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00"/>
                      </a:solidFill>
                    </a:lnL>
                    <a:lnR w="2880">
                      <a:solidFill>
                        <a:srgbClr val="ffff00"/>
                      </a:solidFill>
                    </a:lnR>
                    <a:lnT w="2880">
                      <a:solidFill>
                        <a:srgbClr val="ffff00"/>
                      </a:solidFill>
                    </a:lnT>
                    <a:lnB w="28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 Tarifa de suscripció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00"/>
                      </a:solidFill>
                    </a:lnL>
                    <a:lnR w="2880">
                      <a:solidFill>
                        <a:srgbClr val="ffff00"/>
                      </a:solidFill>
                    </a:lnR>
                    <a:lnT w="2880">
                      <a:solidFill>
                        <a:srgbClr val="ffff00"/>
                      </a:solidFill>
                    </a:lnT>
                    <a:lnB w="28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nocimiento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oticias focalizadas y personalizadas, ofertas basadas en preferencias del usuario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00"/>
                      </a:solidFill>
                    </a:lnL>
                    <a:lnR w="2880">
                      <a:solidFill>
                        <a:srgbClr val="ffff00"/>
                      </a:solidFill>
                    </a:lnR>
                    <a:lnT w="2880">
                      <a:solidFill>
                        <a:srgbClr val="ffff00"/>
                      </a:solidFill>
                    </a:lnT>
                    <a:lnB w="28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nocimiento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eedback para desarrollo de producto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atos de uso de client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00"/>
                      </a:solidFill>
                    </a:lnL>
                    <a:lnR w="2880">
                      <a:solidFill>
                        <a:srgbClr val="ffff00"/>
                      </a:solidFill>
                    </a:lnR>
                    <a:lnT w="2880">
                      <a:solidFill>
                        <a:srgbClr val="ffff00"/>
                      </a:solidFill>
                    </a:lnT>
                    <a:lnB w="28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40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Beneficios intangibl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 Sentimiento de comunida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00"/>
                      </a:solidFill>
                    </a:lnL>
                    <a:lnR w="2880">
                      <a:solidFill>
                        <a:srgbClr val="ffff00"/>
                      </a:solidFill>
                    </a:lnR>
                    <a:lnT w="2880">
                      <a:solidFill>
                        <a:srgbClr val="ffff00"/>
                      </a:solidFill>
                    </a:lnT>
                    <a:lnB w="28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eltad de client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00"/>
                      </a:solidFill>
                    </a:lnL>
                    <a:lnR w="2880">
                      <a:solidFill>
                        <a:srgbClr val="ffff00"/>
                      </a:solidFill>
                    </a:lnR>
                    <a:lnT w="2880">
                      <a:solidFill>
                        <a:srgbClr val="ffff00"/>
                      </a:solidFill>
                    </a:lnT>
                    <a:lnB w="28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0" y="47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Mapeando el valor de intercambi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81040" y="1523880"/>
            <a:ext cx="7129440" cy="437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3360" y="1700280"/>
            <a:ext cx="34358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Productos y Servicios, e Ingresos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160" y="1982880"/>
            <a:ext cx="1706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Arial"/>
              </a:rPr>
              <a:t>Conocimient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600" y="2341440"/>
            <a:ext cx="2608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neficios intangib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Mapeando la Red de Valo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14400" y="1066680"/>
            <a:ext cx="746748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Metodología aplicada a Proyect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Descripción Proyecto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3000" spc="-1" strike="noStrike">
                <a:solidFill>
                  <a:srgbClr val="ffff66"/>
                </a:solidFill>
                <a:latin typeface="Tahoma"/>
              </a:rPr>
              <a:t>Rediseño + Sistema que apoye la gestión de licitación y contratación de servicios externos del Hospital Luis Tisné a través de: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Tahoma"/>
              </a:rPr>
              <a:t>Repositorio integrado de información.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Tahoma"/>
              </a:rPr>
              <a:t>Apoyo en la creación de bases de licitación y contratos.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Tahoma"/>
              </a:rPr>
              <a:t>Incorporación de herramienta para testear nivel de satisfacción de usuarios.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Mapa de Servicios e Ingres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76197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03:18:25Z</dcterms:created>
  <dc:creator>Sergio Zapata</dc:creator>
  <dc:description/>
  <dc:language>en-US</dc:language>
  <cp:lastModifiedBy>CTAD - Mecesup3</cp:lastModifiedBy>
  <dcterms:modified xsi:type="dcterms:W3CDTF">2004-09-03T15:19:45Z</dcterms:modified>
  <cp:revision>19</cp:revision>
  <dc:subject/>
  <dc:title>Reconfigurar la Red del Valor</dc:title>
</cp:coreProperties>
</file>